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3DC-9ED0-4E4A-887D-FBD932FC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6520" y="39448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1194-B070-4683-AB30-E4771296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520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9F0-7A05-4AF1-A924-37C264DE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497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29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65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497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29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48B1-C6A4-45B2-9444-AC71F381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555B-9632-4687-9509-588372F9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8E34-66E4-47F2-831B-C86D905E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0A37-F7E4-434F-B901-290B225A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1674-0E8C-4B0D-85FA-44A08226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276C-8B57-4582-ABAD-1046D67E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76520" y="199800"/>
            <a:ext cx="7300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027B-41A5-4567-BB52-41BACAAD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B6AF-1723-419B-8562-DA6A88DC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F7F1-07A8-4224-8DAF-1A007D5F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520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D810-8B33-4EAB-8DB6-3BBCD854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E613-C503-4E54-9D86-070DE5F9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76520" y="39448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E2D3-552E-4DFE-B739-8BF1302E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520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3F92-1355-4D18-8A23-C97204B7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497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29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765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497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29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0F86-0494-4D51-8E30-C71A6ECD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515F-6D34-406E-B260-AD901F57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A41F-151C-430B-B530-37D18BD0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421F-841F-4447-BB3A-00D95534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520" y="199800"/>
            <a:ext cx="7300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1D26-FDB2-42C9-9F22-6ADA41AF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F14E-D885-46F6-B70C-626FD686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520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5C2D-29BA-4396-A03D-1B9BD1EA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033F-8872-4877-85D9-CD59D850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5309-D30D-4066-91C2-63D83F24C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4E37-21BC-41FB-ADCD-2259E1D41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64: Writers Craft, Reading Like a Writer and Emergent Lite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28800" y="1218960"/>
            <a:ext cx="4572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bruary 5,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moir (Personal Narrati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676520" y="14479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 Word Mem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mithmag.net/sixwordbook/2010/09/13/video-six-tips-for-writing-six-word-memoirs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av.vimeo.com/65269/936/53212683.mp4?token=1347544521_eeb3441c7ce17c541b34c84d69ee55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mithmag.net/sixwordbook/sixword-storybook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Trained. Run….Bike… Swim. I RO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do it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 in a memoir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inting the 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storm words 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which words are important and really convey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ose words together for a 6 word p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6a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28600" y="289548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your Heart Map with a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tory would you like to write about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 about that story in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storm you words and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your 6 words for you p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057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From our Heart 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DSC00694"/>
          <p:cNvPicPr/>
          <p:nvPr/>
        </p:nvPicPr>
        <p:blipFill>
          <a:blip r:embed="rId1"/>
          <a:stretch/>
        </p:blipFill>
        <p:spPr>
          <a:xfrm>
            <a:off x="0" y="0"/>
            <a:ext cx="312408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r’s C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aft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skilled practice of a practical occu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r’s Craft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ols and practices that writers use in their writing to convey particular meaning, create an effect, describe a setting or character. How a writer uses language to reach an audience. Purpose will also determine the tools and practices the writer 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534680"/>
            <a:ext cx="3125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05120" y="2209320"/>
            <a:ext cx="3582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w the story is 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rac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eshad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57440" y="1534680"/>
            <a:ext cx="34290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erary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486400" y="2174400"/>
            <a:ext cx="32004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ls that writer’s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gura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omatopoe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ag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1443240" y="5562720"/>
            <a:ext cx="762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stly in fiction writing but can be in non-f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Like a Writ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authors do to share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ucture, Craft, Id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our Tu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mento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ti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your boo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use this text in your classroom to teach about writer’s cra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er’s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ics/Phonemic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Literature Circle Discu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Ch. 3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mergent Reading and Writing (Language Ar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ring laptops for work on Literature Focus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day’s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reading/writing connection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ding like a 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Writer’s Craft and craft le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mentor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Craft Writing Le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Phonics and Phonemic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strategies for teaching Phonics/Phonemic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Everything we know as writers, we know as readers first. -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ty Ray W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7086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ngs to consider when teaching writ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52120" y="1905120"/>
            <a:ext cx="7239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rs need to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hildren to talk about a story with another. Have them “turn and talk” with a partner to tell their stories before writing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handwriting, spelling and co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should have the opportunity to write throughout the day and throughout the cont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ing like a wr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7124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mething about the craft of the tex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l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bout it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a the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bout why a writer might use this craf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 craft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texts/auth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know.  Have you seen this craft befo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this crafting in your own writ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icing What Writer’s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599840" y="9140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- What do these authors do for lea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Mo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logue T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wer of Three- three words used in a row to create empha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ry Elements/Figurativ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 of Ideas (Linear, See-Saw, Circular, Flashb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 and Bold/Small and 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ons- illustrations are an important part of the story when creating picture boo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ing Punc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6a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92468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moirs(Personal Narrativ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990720"/>
            <a:ext cx="2057400" cy="1679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3657600" y="2666880"/>
            <a:ext cx="1327320" cy="1676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6134040" y="1157400"/>
            <a:ext cx="1676520" cy="1333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4"/>
          <a:stretch/>
        </p:blipFill>
        <p:spPr>
          <a:xfrm>
            <a:off x="2187720" y="733320"/>
            <a:ext cx="1714320" cy="1933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5"/>
          <a:stretch/>
        </p:blipFill>
        <p:spPr>
          <a:xfrm>
            <a:off x="0" y="2743200"/>
            <a:ext cx="1523880" cy="1876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6"/>
          <a:stretch/>
        </p:blipFill>
        <p:spPr>
          <a:xfrm>
            <a:off x="2666880" y="4343400"/>
            <a:ext cx="1781280" cy="1752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7"/>
          <a:stretch/>
        </p:blipFill>
        <p:spPr>
          <a:xfrm>
            <a:off x="1676520" y="2819520"/>
            <a:ext cx="1915920" cy="1523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"/>
          <p:cNvPicPr/>
          <p:nvPr/>
        </p:nvPicPr>
        <p:blipFill>
          <a:blip r:embed="rId8"/>
          <a:stretch/>
        </p:blipFill>
        <p:spPr>
          <a:xfrm>
            <a:off x="380880" y="4572000"/>
            <a:ext cx="1833840" cy="1523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"/>
          <p:cNvPicPr/>
          <p:nvPr/>
        </p:nvPicPr>
        <p:blipFill>
          <a:blip r:embed="rId9"/>
          <a:stretch/>
        </p:blipFill>
        <p:spPr>
          <a:xfrm>
            <a:off x="4038480" y="771480"/>
            <a:ext cx="1495440" cy="1666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2"/>
          <p:cNvSpPr/>
          <p:nvPr/>
        </p:nvSpPr>
        <p:spPr>
          <a:xfrm>
            <a:off x="5105520" y="2590920"/>
            <a:ext cx="37335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e can write about a time when w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ere afra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vercame an obsta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ere with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ere surpr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ere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ccomplished 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ad a difficul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id something for the firs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n adven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ad vis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683720" y="6326280"/>
            <a:ext cx="44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oodreads.com/list/tag/memo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oring Memo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600200" y="13712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these texts have in common  What makes them memo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about who is narrating the s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y all told in first person?  Why do you think that migh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otice about the scope of the memoirs?  How many days do they usually sp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you suppose it looks at such a short time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urpose of a mem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ould someone sit down and write about an event in his/her lif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6a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focuses and reflects on the relationship between the writer and a particular person, place, animal, or obj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ory will make you feel something: happy, sad, mad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explains the significance of the relation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leaves the reader with one impression of the subject of the memo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limited to a particular phase, time period, place, or recurring behavior in order to develop the focus 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akes the subject of the memoir come a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aintains a first person point of 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7:33:06Z</dcterms:created>
  <dc:creator>College of Education</dc:creator>
  <dc:description/>
  <cp:keywords/>
  <dc:language>en-US</dc:language>
  <cp:lastModifiedBy>College of Education</cp:lastModifiedBy>
  <dcterms:modified xsi:type="dcterms:W3CDTF">2013-02-05T17:47:07Z</dcterms:modified>
  <cp:revision>17</cp:revision>
  <dc:subject/>
  <dc:title>Beyond the Basal: Reading/Writing Conne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85661033</vt:lpwstr>
  </property>
</Properties>
</file>